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7FF6D-5630-4196-A508-7E66B86D7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5F974-4A60-43F3-9DBA-EA26DC5FA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5D662-687D-466B-A1E9-F8E3A7FA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B632A-69DF-4638-B20D-F0A0A4008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138DE-CD01-44A4-A56A-813647B0B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E0B87-772B-49D2-84FA-9B1C3CB97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6A7E1-3908-4E14-891D-DAD66E12E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F84B-F1AD-4806-B121-85E02F7ED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4E8C5-7C39-4F7C-A416-42D2C9A5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B0F1-473F-4394-A3D2-0FEFB481F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AF320-19B2-4EFD-8E60-EEDE18EC6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2405-B834-4BF5-A654-E325DF8E9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931A-FD2D-4111-98E7-7CC9BAD41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ebian.org/" TargetMode="External"/><Relationship Id="rId3" Type="http://schemas.openxmlformats.org/officeDocument/2006/relationships/hyperlink" Target="http://www.debian.org/" TargetMode="External"/><Relationship Id="rId4" Type="http://schemas.openxmlformats.org/officeDocument/2006/relationships/hyperlink" Target="http://www.debian.org/" TargetMode="External"/><Relationship Id="rId5" Type="http://schemas.openxmlformats.org/officeDocument/2006/relationships/hyperlink" Target="http://www.debian.org/" TargetMode="External"/><Relationship Id="rId6" Type="http://schemas.openxmlformats.org/officeDocument/2006/relationships/hyperlink" Target="ftp://ftp.debian.org/debian/" TargetMode="External"/><Relationship Id="rId7" Type="http://schemas.openxmlformats.org/officeDocument/2006/relationships/hyperlink" Target="ftp://ftp.debian.org/debian/" TargetMode="External"/><Relationship Id="rId8" Type="http://schemas.openxmlformats.org/officeDocument/2006/relationships/hyperlink" Target="ftp://ftp.debian.org/debian/" TargetMode="External"/><Relationship Id="rId9" Type="http://schemas.openxmlformats.org/officeDocument/2006/relationships/hyperlink" Target="ftp://ftp.debian.org/debian/" TargetMode="External"/><Relationship Id="rId10" Type="http://schemas.openxmlformats.org/officeDocument/2006/relationships/hyperlink" Target="ftp://ftp.debian.org/debian/" TargetMode="External"/><Relationship Id="rId11" Type="http://schemas.openxmlformats.org/officeDocument/2006/relationships/hyperlink" Target="ftp://ftp.debian.org/debian/" TargetMode="External"/><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edhat.com/" TargetMode="External"/><Relationship Id="rId3" Type="http://schemas.openxmlformats.org/officeDocument/2006/relationships/hyperlink" Target="http://www.redhat.com/" TargetMode="External"/><Relationship Id="rId4" Type="http://schemas.openxmlformats.org/officeDocument/2006/relationships/hyperlink" Target="http://www.redhat.com/" TargetMode="External"/><Relationship Id="rId5" Type="http://schemas.openxmlformats.org/officeDocument/2006/relationships/hyperlink" Target="http://www.redhat.com/" TargetMode="External"/><Relationship Id="rId6" Type="http://schemas.openxmlformats.org/officeDocument/2006/relationships/hyperlink" Target="ftp://ftp.redhat.com/" TargetMode="External"/><Relationship Id="rId7" Type="http://schemas.openxmlformats.org/officeDocument/2006/relationships/hyperlink" Target="ftp://ftp.redhat.com/" TargetMode="External"/><Relationship Id="rId8" Type="http://schemas.openxmlformats.org/officeDocument/2006/relationships/hyperlink" Target="ftp://ftp.redhat.com/" TargetMode="External"/><Relationship Id="rId9" Type="http://schemas.openxmlformats.org/officeDocument/2006/relationships/hyperlink" Target="ftp://ftp.redhat.com/" TargetMode="External"/><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use.com/" TargetMode="External"/><Relationship Id="rId3" Type="http://schemas.openxmlformats.org/officeDocument/2006/relationships/hyperlink" Target="http://www.suse.com/" TargetMode="External"/><Relationship Id="rId4" Type="http://schemas.openxmlformats.org/officeDocument/2006/relationships/hyperlink" Target="http://www.suse.com/" TargetMode="External"/><Relationship Id="rId5" Type="http://schemas.openxmlformats.org/officeDocument/2006/relationships/hyperlink" Target="http://www.suse.com/" TargetMode="External"/><Relationship Id="rId6" Type="http://schemas.openxmlformats.org/officeDocument/2006/relationships/hyperlink" Target="ftp://ftp.suse.com/" TargetMode="External"/><Relationship Id="rId7" Type="http://schemas.openxmlformats.org/officeDocument/2006/relationships/hyperlink" Target="ftp://ftp.suse.com/" TargetMode="External"/><Relationship Id="rId8" Type="http://schemas.openxmlformats.org/officeDocument/2006/relationships/hyperlink" Target="ftp://ftp.suse.com/" TargetMode="External"/><Relationship Id="rId9" Type="http://schemas.openxmlformats.org/officeDocument/2006/relationships/hyperlink" Target="ftp://ftp.suse.com/" TargetMode="External"/><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drom.com/" TargetMode="External"/><Relationship Id="rId3" Type="http://schemas.openxmlformats.org/officeDocument/2006/relationships/hyperlink" Target="http://www.cdrom.com/" TargetMode="External"/><Relationship Id="rId4" Type="http://schemas.openxmlformats.org/officeDocument/2006/relationships/hyperlink" Target="http://www.cdrom.com/" TargetMode="External"/><Relationship Id="rId5" Type="http://schemas.openxmlformats.org/officeDocument/2006/relationships/hyperlink" Target="http://www.cdrom.com/" TargetMode="External"/><Relationship Id="rId6" Type="http://schemas.openxmlformats.org/officeDocument/2006/relationships/hyperlink" Target="ftp://ftp.cdrom.com/" TargetMode="External"/><Relationship Id="rId7" Type="http://schemas.openxmlformats.org/officeDocument/2006/relationships/hyperlink" Target="ftp://ftp.cdrom.com/" TargetMode="External"/><Relationship Id="rId8" Type="http://schemas.openxmlformats.org/officeDocument/2006/relationships/hyperlink" Target="ftp://ftp.cdrom.com/" TargetMode="External"/><Relationship Id="rId9" Type="http://schemas.openxmlformats.org/officeDocument/2006/relationships/hyperlink" Target="ftp://ftp.cdrom.com/" TargetMode="External"/><Relationship Id="rId10" Type="http://schemas.openxmlformats.org/officeDocument/2006/relationships/hyperlink" Target="http://www.slackware.com/" TargetMode="External"/><Relationship Id="rId11" Type="http://schemas.openxmlformats.org/officeDocument/2006/relationships/hyperlink" Target="http://www.slackware.com/" TargetMode="External"/><Relationship Id="rId12" Type="http://schemas.openxmlformats.org/officeDocument/2006/relationships/hyperlink" Target="http://www.slackware.com/" TargetMode="External"/><Relationship Id="rId13" Type="http://schemas.openxmlformats.org/officeDocument/2006/relationships/hyperlink" Target="http://www.slackware.com/" TargetMode="External"/><Relationship Id="rId1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aldera.com/" TargetMode="External"/><Relationship Id="rId3" Type="http://schemas.openxmlformats.org/officeDocument/2006/relationships/hyperlink" Target="http://www.caldera.com/" TargetMode="External"/><Relationship Id="rId4" Type="http://schemas.openxmlformats.org/officeDocument/2006/relationships/hyperlink" Target="http://www.caldera.com/" TargetMode="External"/><Relationship Id="rId5" Type="http://schemas.openxmlformats.org/officeDocument/2006/relationships/hyperlink" Target="http://www.caldera.com/" TargetMode="External"/><Relationship Id="rId6" Type="http://schemas.openxmlformats.org/officeDocument/2006/relationships/hyperlink" Target="ftp://ftp.caldera.com/" TargetMode="External"/><Relationship Id="rId7" Type="http://schemas.openxmlformats.org/officeDocument/2006/relationships/hyperlink" Target="ftp://ftp.caldera.com/" TargetMode="External"/><Relationship Id="rId8" Type="http://schemas.openxmlformats.org/officeDocument/2006/relationships/hyperlink" Target="ftp://ftp.caldera.com/" TargetMode="External"/><Relationship Id="rId9" Type="http://schemas.openxmlformats.org/officeDocument/2006/relationships/hyperlink" Target="ftp://ftp.caldera.com/" TargetMode="External"/><Relationship Id="rId10"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inux-mandrake.com/" TargetMode="External"/><Relationship Id="rId3" Type="http://schemas.openxmlformats.org/officeDocument/2006/relationships/hyperlink" Target="http://www.linux-mandrake.com/" TargetMode="External"/><Relationship Id="rId4" Type="http://schemas.openxmlformats.org/officeDocument/2006/relationships/hyperlink" Target="http://www.linux-mandrake.com/" TargetMode="External"/><Relationship Id="rId5" Type="http://schemas.openxmlformats.org/officeDocument/2006/relationships/hyperlink" Target="http://www.linux-mandrake.com/" TargetMode="Externa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ációs rendszerek II.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Lin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szabad szoftverek (freeware) és a GNU projec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s évek elején több programozó nem vette szívesen a nem másolható programok, és az üzleti gondolkodás térhódítását. Szabadságukat korlátozó tényezőnek látták a terjesztésre és a módosításra kirótt korlátokat, amelyek egyesek meggazdagodását szolgálják csak, miközben - jó esetben - közepes szintű programok születnek ilyen körülmények közöt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zért ezek a programozók saját programjaikat továbbra is szabadon közreadták, várták mások módosító javaslatait, esetleg programrészeit, ezek közül a jobbakat beépítették az új verziókba, és így tökéletesítették programjuk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szabad szoftverek (freeware) és a GNU projec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sok különálló elszánt programozót szerette volna Richard M. Stallman összefogni az 1980-as évek első felében azzal, hogy megalapította a ,,Free Software Foundation''-t (FSF, Szabad Szoftver Alapítvány), és elindította a ,,GNU project''-et. Előbbinek elsődleges célja, hogy alapítványként adományokat fogadhat el, amelyekből gépparkot tarthat fenn és fizethet a programozóknak, utóbbi magát a programozási munkát hivatott koordinálni. A GNU project alapvető célja, hogy egy teljesen szabadterjesztésű programokból álló, UNIX-szerű rendszert hozzon össz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pfogalmak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ccount</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Felhasználói számla. A számla kifejezés abból ered, hogy a felhasznált processzoridőért, tárolóterületért pénzt számoltak/számolnak fel.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UI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felhasználó azonosítója (a rendszerben minden egyes felhasználónak egy ilyen egyedi azonosítója van).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GI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Csoportazonosító. A UNIX rendszerben minden felhasználó be van osztva egy csoportba. A gid annak a csoportnak az azonosítója, amelybe a felhasználó tartozik. (A csoportbeosztás tetszőleges lehet; van olyan rendszer, ahol minden felhasználó egy közös csoportba tartozik, és például az egyetemeken gyakori a teachers illetve students csopor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PI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Folyamat-azonosító.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pfogalmak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PGRP-ID</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Folyamat-csoport azonosítója. Ez egyenlő a folyamat-csoport vezetőjének a pid-jével (minden folyamat tagja valamely folyamat-csoportnak, minden folyamat megalapíthat egy saját folyamat-csoportot, és lehetőség van például egy folyamat-csoport minden tagjának a ,,kilövésére'' egyetlen művelettel).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GRP-ID</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erminál group-id. Minden folyamathoz ez is tárolva van. Ez egyenlő annak a folyamatnak a pid-jével, amely a folyamathoz tartozó terminál-(képernyő) fájlt legelőször megnyitotta. Ez általában a legelőször elindult login shell.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UID</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ffektiv user id) - általában egyenlő az uid-del, a felhasználói azonosítóval, de bizonyos esetekben (ún. setuid-bites programoknál) más is lehet. Ilyen módon egy adott folyamatnak több jogot lehet adni, mint ami a folyamat elindítójának va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GID</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ffektiv group id) - mint euid, csak a csoport-azonosítóra.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szuperfelhasználó</a:t>
            </a:r>
            <a:r>
              <a:rPr b="0" lang="hu-HU"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minden jogokkal rendelkező felhasználó. A felhasználói azonosítója általában 0 szokott lenni minden UNIX-ban, és felhasználói neve (login neve) általában roo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lapfogalmak - multitaszk</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öbb feladat egyidejű végrehajtását jelenti. Egy processzorral rendelkező számítógépeken az egyidejű végrehajtás csak látszólagos, hiszen a processzor csak egy feladattal tud foglalkozni egyszerre; tehát a feladatok felváltva kapják meg a processzort. A legkisebb egység amely párhuzamos feldolgozásra kerülhet - a processz. A feladatok váltogatását az ütemező végzi, amely különböző stratégiák szerint dolgozh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Round robin 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prioritásos 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legrövidebb feladatot először elv,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arantált 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orsjáték-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valós idejű ütemezé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étszintű ütemezé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inux prioritási szinteket használ lehetővé téve, hogy a felhasználó megváltoztassa a saját processzeinek a prioritásá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lapfogalmak - multiuse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öbb felhasználó egyidejű kiszolgálását jelent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 nem kifejezetten fájlok megosztását jelenti, hanem inkább programok futtatását. Tehát egy gépre több ember jelentkezhet be egyszerre, és egyszerre tudnak dolgozni anélkül, hogy zavarnák egymás munkáját. Ez maga után vonja azt, hogy a rendszernek meg kell tudnia különböztetni egymástól a felhasználók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nden felhasználóhoz előre definiált jogok és engedélyek tartoznak, amelyeket a rendszer mindig ellenőriz, amikor a felhasználó szeretne hozzáférni valamihez. Ez szükséges az erőforrások megfelelő szétosztásának, és a biztonságnak az érdekébe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többfelhasználós rendszerekhez tartoznia kell egy olyan személynek, aki a rendszerrel kapcsolatos adminisztrációs teendőket ellátja, ezt Linux alatt </a:t>
            </a:r>
            <a:r>
              <a:rPr b="0" i="1" lang="hu-HU" sz="2000" spc="-1" strike="noStrike">
                <a:solidFill>
                  <a:srgbClr val="000000"/>
                </a:solidFill>
                <a:latin typeface="Arial"/>
              </a:rPr>
              <a:t>root</a:t>
            </a:r>
            <a:r>
              <a:rPr b="0" lang="hu-HU" sz="2000" spc="-1" strike="noStrike">
                <a:solidFill>
                  <a:srgbClr val="000000"/>
                </a:solidFill>
                <a:latin typeface="Arial"/>
              </a:rPr>
              <a:t>-nak hívjá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lapfogalmak - Mi az a shell?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ás néven parancsértelmező. Ugyanazt a feladatot látja el, mint MS-DOS alatt a command.com, de sokkal több mindenre képes. Nem része az operációs rendszernek, ez tartja a kapcsolatot a felhasználó és az operációs rendszer közöt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nden felhasználó bejelentkezésekor egy parancsértelmező indul el. A parancsértelmező szabványos bemenete és kimenete a terminál. Egy promptot jelenít meg (ami egyénileg beállítható), jelezve, hogy készen áll a feladatok végrehajtásá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a felhasználó elindít egy parancsot, akkor a parancsértelmező elindít egy gyermekprocesszt, ami lefuttatja a kért parancso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gyermekprocessz futása közben a parancsértelmező annak a megszűnésére vá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gyermekprocessz megszűnésekor a parancsértelmező újra megjeleníti a prompt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pfogalmak - fájlrendsz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fájlrendszer a lemezen tárolt adatok kezelhetőségét biztosítja. Annak érdekében, hogy a Linux más fájlrendszerek támogatását is tudja biztosítani, a kernel és a fájlrendszerek között létezik egy szint, amelyet virtuális fájlrendszernek nevezne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z rendelkezik azokkal a rutinokkal, amelyek szükségesek egy fájlrendszeren történő műveletvégzéshez.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z biztosítja a különböző fájlrendszerek közötti átjárhatóságot, mert a felhasználónak nem is kell tudnia, hogy milyen fájlrendszeren történik a műveletvégzés, csak kiadja a parancsot, és az érintett fájlrendszer-kezelő lefordítja a megfelelő fájlrendszer-hívások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jlrendszer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ájlokat valahogyan rendszerezni kell, és erre a legelfogadhatóbb megoldást a hierarchikus könyvtárszerkezet biztosítja. Ekkor a valamilyen szempont szerint összetartozó fájlok kerülnek egy könyvtárb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erarchikus szerkezet azt jelenti, hogy a könyvtárak tartalmazhatnak alkönyvtárakat is. Ebben a könyvtárszerkezetben az egyes fájlokra úgy tudunk hivatkozni, hogy meg kell adnunk, mely könyvtárakon keresztül érhetjük el a könyvtárszerkezet gyökerétől kiindulva. Ezt nevezik a fájl elérési útjána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z elérési út egyes tagjait a / jel választja el egymástól, a legelső / jel a hierarchia legtetején lévő úgynevezett gyökér-könyvtárat jelöli, amelyből a többi elágazi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jlrendszer</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ájlokra való hivatkozáskor nem kell tudnunk azt, hogy milyen fizikai eszközön (floppy, CD-ROM, merevlemez, stb.) helyezkednek el, elég a könyvtár hierarchia-beli helyüket megadnun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emezpartíció és a rajta levő fájlrendszer közti különbség nagyon fontos. Néhány program, mint pl. a fájlrendszereket létrehozó programok, közvetlenül a lemez szektoraival dolgoznak. Ilyen program egy már esetleg meglevő fájlrendszert súlyosan megrongál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egtöbb program viszont csak a fájlrendszert használva ír a lemezre, ezért ezek csak megfelelő fájlrendszert már tartalmazó partíción működne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ielőtt egy lemezpartíciót fájlrendszerként kezdünk használni, inicializálni kell, és a nyilvántartó adatstruktúrákat a lemezre kell írni. Ezt a folyamatot fájlrendszer készítésnek nevezzü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i is az a </a:t>
            </a:r>
            <a:r>
              <a:rPr b="0" i="1" lang="hu-HU" sz="4400" spc="-1" strike="noStrike">
                <a:solidFill>
                  <a:srgbClr val="000000"/>
                </a:solidFill>
                <a:latin typeface="Arial"/>
              </a:rPr>
              <a:t>Linux</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0" i="1" lang="hu-HU" sz="2400" spc="-1" strike="noStrike">
                <a:solidFill>
                  <a:srgbClr val="000000"/>
                </a:solidFill>
                <a:latin typeface="Arial"/>
              </a:rPr>
              <a:t>Linux</a:t>
            </a:r>
            <a:r>
              <a:rPr b="0" lang="hu-HU" sz="2400" spc="-1" strike="noStrike">
                <a:solidFill>
                  <a:srgbClr val="000000"/>
                </a:solidFill>
                <a:latin typeface="Arial"/>
              </a:rPr>
              <a:t> egy 32 bites, POSIX szabványt követő UNIX változat, amely eredetileg csak IBM PC gépeken futott (80386 vagy jobb processzor esetén), de mára nagyon sok hardverre adaptáltá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Így létezik </a:t>
            </a:r>
            <a:r>
              <a:rPr b="0" i="1" lang="hu-HU" sz="2400" spc="-1" strike="noStrike">
                <a:solidFill>
                  <a:srgbClr val="000000"/>
                </a:solidFill>
                <a:latin typeface="Arial"/>
              </a:rPr>
              <a:t>Linux</a:t>
            </a:r>
            <a:r>
              <a:rPr b="0" lang="hu-HU" sz="2400" spc="-1" strike="noStrike">
                <a:solidFill>
                  <a:srgbClr val="000000"/>
                </a:solidFill>
                <a:latin typeface="Arial"/>
              </a:rPr>
              <a:t> DEC AXP, PowerPC, M680x0, Sun Sparc alapú gépekre i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különböző hardverekre a rendszer kidolgozottsága eltérő fokú, de mindegyik esetén legalábbis összemérhető hatékonyságú és megbízhatóságú az azon a gépen szokásos operációs rendszerekkel, több esetben pedig sok szempontból job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jlrendszer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legtöbb UNIX fájlrendszernek hasonló az általános felépítése, bár a részletek egy kicsit változhatnak.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központi fogalmak: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szuperblokk,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inod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datblokk,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önyvtár blokk,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indirekció blok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jlrendszer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zuperblokk a fájrendszer egészéről tartalmaz információkat, mint pl. a teljes mér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zuperblokk pontos tartalma fájlrendszerfüggő.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inode-ok egy-egy fájl minden adatát tartalmazzák a nevén kívül. A név ugyanis a könyvtárban tárolódik az inode sorszámával együt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inode több adatblokk sorszámát tartalmazza, melyek a fájl adatait tároljá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inode-ban csak néhány adatblokk sorszámának van hely, és ha ennél több szükséges, automatikusan több terület kerül lefoglalás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ek a dinamikusan lefoglalt blokkok az indirekt blokkok; a név azt jelzi, hogy az adatblokk megtalálásához az indirekt blokkban kell keresni a megfelelő blokk sorszáma ut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ájlokhoz tartozó hozzáférési jogosultságok meghatározzák, hogy melyik felhasználó melyik fájlon hajthat végre műveletet, és még a műveletet is meghatározz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Linux a felhasználókat három csoportra osztja, amikor a fájlokhoz és könyvtárakhoz való viszonyukat vizsgálja: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ájl tulajdonosa (user),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soport (grou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éb (other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csoport'' segítségével csoportosíthatjuk a felhasználókat - lehetőleg - valamilyen logika szerint, hogy meg tudják osztani egymással a megfelelő fájljaikat vagy szabályozni tudjuk a hozzáférése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fájlokkal és könyvtárakkal három dolgot tehetnek a felhasználók: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olvasás (rea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írás (writ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végrehajtás (execut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indhárom felhasználói csoportra külön-külön be lehet állítani ezeket az engedélyek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ájloknál elég egyértelmű, hogy mit takar ez a három dolog: olvasás, írás és végrehajtás, de könyvtáraknál már nem az.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 könyvtár olvasása azt jelenti, hogy egy erre a célra szolgáló paranccsal ki tudjuk listázni a könyvtár tartalmá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 könyvtárat akkor nevezünk írhatónak, ha a megfelelő parancsokkal bejegyzéseket tudunk létrehozni, módosítani vagy törölni az adott könyvtárban, illetve törölhetjük magát a könyvtárat. Talán a végrehajtás a legnehezebben megérthető, mert hasonlít egy kicsit az olvasás engedélyhez.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De abban az esetben, ha egy könyvtárra csak olvasási jogunk van, akkor nem tudjuk megnézni a fájloknak a bejegyzéseit; míg ha végrehajtási jogunk van csak, akkor - ha ismerjük a fájl teljes nevét - az </a:t>
            </a:r>
            <a:r>
              <a:rPr b="0" i="1" lang="hu-HU" sz="2000" spc="-1" strike="noStrike">
                <a:solidFill>
                  <a:srgbClr val="000000"/>
                </a:solidFill>
                <a:latin typeface="Arial"/>
              </a:rPr>
              <a:t>ls</a:t>
            </a:r>
            <a:r>
              <a:rPr b="0" lang="hu-HU" sz="2000" spc="-1" strike="noStrike">
                <a:solidFill>
                  <a:srgbClr val="000000"/>
                </a:solidFill>
                <a:latin typeface="Arial"/>
              </a:rPr>
              <a:t> parancs megmutatja a fájlt (de csak azt az egy fájlt, mert a könyvtárban esetleg lévő többi fájlt már nem fogjuk látni), és el is tudjuk indítani (amennyiben az egy végrehajtható script vagy program, és van engedélyünk a fájlr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rwxr-xr-- 1 zsiga zsiga 6040 Jun 24 14:22 scrip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 legelső karakter a ,,-'' jel helyén a következő jelölések állhatna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közönséges fáj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b</a:t>
            </a:r>
            <a:r>
              <a:rPr b="0" lang="hu-HU" sz="2400" spc="-1" strike="noStrike">
                <a:solidFill>
                  <a:srgbClr val="000000"/>
                </a:solidFill>
                <a:latin typeface="Arial"/>
              </a:rPr>
              <a:t> - blokkos eszköz (például: adattároló eszközö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c</a:t>
            </a:r>
            <a:r>
              <a:rPr b="0" lang="hu-HU" sz="2400" spc="-1" strike="noStrike">
                <a:solidFill>
                  <a:srgbClr val="000000"/>
                </a:solidFill>
                <a:latin typeface="Arial"/>
              </a:rPr>
              <a:t> - karakteres eszköz (például: nyomtató, terminál, stb.)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d</a:t>
            </a:r>
            <a:r>
              <a:rPr b="0" lang="hu-HU" sz="2400" spc="-1" strike="noStrike">
                <a:solidFill>
                  <a:srgbClr val="000000"/>
                </a:solidFill>
                <a:latin typeface="Arial"/>
              </a:rPr>
              <a:t> - könyvtá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l</a:t>
            </a:r>
            <a:r>
              <a:rPr b="0" lang="hu-HU" sz="2400" spc="-1" strike="noStrike">
                <a:solidFill>
                  <a:srgbClr val="000000"/>
                </a:solidFill>
                <a:latin typeface="Arial"/>
              </a:rPr>
              <a:t> - szimbolikus lin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p</a:t>
            </a:r>
            <a:r>
              <a:rPr b="0" lang="hu-HU" sz="2400" spc="-1" strike="noStrike">
                <a:solidFill>
                  <a:srgbClr val="000000"/>
                </a:solidFill>
                <a:latin typeface="Arial"/>
              </a:rPr>
              <a:t> - pipe (csatorn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s</a:t>
            </a:r>
            <a:r>
              <a:rPr b="0" lang="hu-HU" sz="2400" spc="-1" strike="noStrike">
                <a:solidFill>
                  <a:srgbClr val="000000"/>
                </a:solidFill>
                <a:latin typeface="Arial"/>
              </a:rPr>
              <a:t> - socke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következő kilenc karakter azt mutatja, hogy ki mit tehet a fájll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r</a:t>
            </a:r>
            <a:r>
              <a:rPr b="0" lang="hu-HU" sz="3200" spc="-1" strike="noStrike">
                <a:solidFill>
                  <a:srgbClr val="000000"/>
                </a:solidFill>
                <a:latin typeface="Arial"/>
              </a:rPr>
              <a:t> - olvasási engedély (rea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w</a:t>
            </a:r>
            <a:r>
              <a:rPr b="0" lang="hu-HU" sz="3200" spc="-1" strike="noStrike">
                <a:solidFill>
                  <a:srgbClr val="000000"/>
                </a:solidFill>
                <a:latin typeface="Arial"/>
              </a:rPr>
              <a:t> - írási engedély (wri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x</a:t>
            </a:r>
            <a:r>
              <a:rPr b="0" lang="hu-HU" sz="3200" spc="-1" strike="noStrike">
                <a:solidFill>
                  <a:srgbClr val="000000"/>
                </a:solidFill>
                <a:latin typeface="Arial"/>
              </a:rPr>
              <a:t> - végrehajtási engedély (execut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a:t>
            </a:r>
            <a:r>
              <a:rPr b="0" lang="hu-HU" sz="3200" spc="-1" strike="noStrike">
                <a:solidFill>
                  <a:srgbClr val="000000"/>
                </a:solidFill>
                <a:latin typeface="Arial"/>
              </a:rPr>
              <a:t> - az engedélyek hiány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s</a:t>
            </a:r>
            <a:r>
              <a:rPr b="0" lang="hu-HU" sz="3200" spc="-1" strike="noStrike">
                <a:solidFill>
                  <a:srgbClr val="000000"/>
                </a:solidFill>
                <a:latin typeface="Arial"/>
              </a:rPr>
              <a:t> - suid bi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t</a:t>
            </a:r>
            <a:r>
              <a:rPr b="0" lang="hu-HU" sz="3200" spc="-1" strike="noStrike">
                <a:solidFill>
                  <a:srgbClr val="000000"/>
                </a:solidFill>
                <a:latin typeface="Arial"/>
              </a:rPr>
              <a:t> - sticky bi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zzáférési jogosultságok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Tehát a fenti </a:t>
            </a:r>
            <a:r>
              <a:rPr b="0" i="1" lang="hu-HU" sz="2400" spc="-1" strike="noStrike">
                <a:solidFill>
                  <a:srgbClr val="000000"/>
                </a:solidFill>
                <a:latin typeface="Arial"/>
              </a:rPr>
              <a:t>script</a:t>
            </a:r>
            <a:r>
              <a:rPr b="0" lang="hu-HU" sz="2400" spc="-1" strike="noStrike">
                <a:solidFill>
                  <a:srgbClr val="000000"/>
                </a:solidFill>
                <a:latin typeface="Arial"/>
              </a:rPr>
              <a:t> nevű fájl jelölései sorrendben a következő dolgokat jelentik: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közönséges fáj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r</a:t>
            </a:r>
            <a:r>
              <a:rPr b="0" lang="hu-HU" sz="2400" spc="-1" strike="noStrike">
                <a:solidFill>
                  <a:srgbClr val="000000"/>
                </a:solidFill>
                <a:latin typeface="Arial"/>
              </a:rPr>
              <a:t> - olvasási engedély a tulajdono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w</a:t>
            </a:r>
            <a:r>
              <a:rPr b="0" lang="hu-HU" sz="2400" spc="-1" strike="noStrike">
                <a:solidFill>
                  <a:srgbClr val="000000"/>
                </a:solidFill>
                <a:latin typeface="Arial"/>
              </a:rPr>
              <a:t> - írási engedély a tulajdono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x</a:t>
            </a:r>
            <a:r>
              <a:rPr b="0" lang="hu-HU" sz="2400" spc="-1" strike="noStrike">
                <a:solidFill>
                  <a:srgbClr val="000000"/>
                </a:solidFill>
                <a:latin typeface="Arial"/>
              </a:rPr>
              <a:t> - végrehajtási engedély a tulajdono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r</a:t>
            </a:r>
            <a:r>
              <a:rPr b="0" lang="hu-HU" sz="2400" spc="-1" strike="noStrike">
                <a:solidFill>
                  <a:srgbClr val="000000"/>
                </a:solidFill>
                <a:latin typeface="Arial"/>
              </a:rPr>
              <a:t> - olvasási engedély a csoport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az írási engedély hiánya a csoport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x</a:t>
            </a:r>
            <a:r>
              <a:rPr b="0" lang="hu-HU" sz="2400" spc="-1" strike="noStrike">
                <a:solidFill>
                  <a:srgbClr val="000000"/>
                </a:solidFill>
                <a:latin typeface="Arial"/>
              </a:rPr>
              <a:t> - végrehajtási engedély a csoport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r</a:t>
            </a:r>
            <a:r>
              <a:rPr b="0" lang="hu-HU" sz="2400" spc="-1" strike="noStrike">
                <a:solidFill>
                  <a:srgbClr val="000000"/>
                </a:solidFill>
                <a:latin typeface="Arial"/>
              </a:rPr>
              <a:t> - olvasási engedély bárki má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írási engedély hiánya bárki más számá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t>
            </a:r>
            <a:r>
              <a:rPr b="0" lang="hu-HU" sz="2400" spc="-1" strike="noStrike">
                <a:solidFill>
                  <a:srgbClr val="000000"/>
                </a:solidFill>
                <a:latin typeface="Arial"/>
              </a:rPr>
              <a:t> - végrehajtási engedély hiánya bárki más számá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uid és sgid bit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suid egy rövidítés, a ,,Set User Identification'' kifejezés rövidíté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t jelenti, hogy a ,,felhasználói azonosító megváltoztatás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nnek megértéséhez tudnunk kell azt, hogy időnként szükség van arra, hogy egy egyszerű felhasználó egy privilégizált felhasználó jogaival rendelkezze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alán a legegyszerűbb eset a jelszó megváltoztatása. Egy egyszerű felhasználó nem írhatja közvetlenül a rendszer jelszófájlját, hiszen akkor bármikor korlátlan jogokhoz juthatna, de a saját jelszavát meg kell tudnia változtatn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hhez viszont írnia kell a jelszófájlba. Ezt az ellentmondást oldják fel úgy, hogy a programot ruházzák fel privilégizált jogokkal, a suid bit beállításáv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uid és sgid bi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sgid bit is egy rövidítés a ,,Set Group Identification'' kifejezés rövidíté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t jelenti, hogy a ,,csoportazonosító megváltoztatá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Beállítása esetén a program annak a csoportnak a jogaival fog futni, akinek a fájl a birtokában va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sgid bitet könyvtárak esetén is be lehet kapcsolni. Ennek az eredménye a következő: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a ebben a könyvtárban bárki létrehoz egy fájlt (ehhez az többi jognak rendben kell lennie), akkor a fájl csoporttulajdonosa nem az a csoport lesz, amelyikbe a felhasználó tartozik, hanem az, akinek a könyvtár a birtokában v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i is az a </a:t>
            </a:r>
            <a:r>
              <a:rPr b="0" i="1" lang="hu-HU" sz="4400" spc="-1" strike="noStrike">
                <a:solidFill>
                  <a:srgbClr val="000000"/>
                </a:solidFill>
                <a:latin typeface="Arial"/>
              </a:rPr>
              <a:t>Linux</a:t>
            </a:r>
            <a:r>
              <a:rPr b="0" lang="hu-HU" sz="4400" spc="-1" strike="noStrike">
                <a:solidFill>
                  <a:srgbClr val="000000"/>
                </a:solidFill>
                <a:latin typeface="Arial"/>
              </a:rPr>
              <a: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a:t>
            </a:r>
            <a:r>
              <a:rPr b="0" i="1" lang="hu-HU" sz="2800" spc="-1" strike="noStrike">
                <a:solidFill>
                  <a:srgbClr val="000000"/>
                </a:solidFill>
                <a:latin typeface="Arial"/>
              </a:rPr>
              <a:t>Linux</a:t>
            </a:r>
            <a:r>
              <a:rPr b="0" lang="hu-HU" sz="2800" spc="-1" strike="noStrike">
                <a:solidFill>
                  <a:srgbClr val="000000"/>
                </a:solidFill>
                <a:latin typeface="Arial"/>
              </a:rPr>
              <a:t> valóban 32 bites és valóban többfelhasználós (multiuser) és többfeladatos (multitasking) operációs rendsz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nnek az az oka, hogy írója nem egy korábbi rendszert kezdett el tökéletesítgetni, toldozgatni, hanem ,,az első bittől kezdve'' elölről írta meg, felhasználva sok más programozó tapasztalatát, később programrészlete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okhoz tartoznak egyéb információk is a jogosultságokon kívül:</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ra mutató linkek szám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tulajdonosának azonosítój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csoporttulajdonosának azonosítój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méret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utolsó módosításának dátum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utolsó hozzáférésének dátum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létrehozásának vagy utolsó státuszmódosításának dátum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ájl típusa (könyvtár, sima fájl, st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zközök </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Unix rendszerek mindent fájlként kezelnek, a merevlemezeket, a terminálokat, az audio-eszközöket, meghajtókat, stb. Ez megkönnyíti a programozók dolgát, mert így az eszközöket is a fájlokhoz hasonló módon tudják elérn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zközök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0" i="1" lang="hu-HU" sz="2400" spc="-1" strike="noStrike">
                <a:solidFill>
                  <a:srgbClr val="000000"/>
                </a:solidFill>
                <a:latin typeface="Arial"/>
              </a:rPr>
              <a:t>/dev</a:t>
            </a:r>
            <a:r>
              <a:rPr b="0" lang="hu-HU" sz="2400" spc="-1" strike="noStrike">
                <a:solidFill>
                  <a:srgbClr val="000000"/>
                </a:solidFill>
                <a:latin typeface="Arial"/>
              </a:rPr>
              <a:t> könyvtárban találunk meg minden fájlt, ami az eszközökhöz tartozi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z eszközöknek két fajtájuk van, karakter- és blokkeszközök.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arakterorientált eszköz például a terminál, a soros 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Blokkorientált eszközök például az adattároló eszközök.</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z eszközöket két szám jellemzi: a fő- és az aleszközszám. A főeszközszám adja meg az eszköz típusá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Ha ugyanabból a típusból több eszköz is van, akkor ezeket az aleszközszám különbözteti meg egymástó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zközök</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zsiga@debian:~$ ls -al /dev/h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0 Feb 20 1998 /dev/h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 Feb 20 1998 /dev/hda1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0 Feb 20 1998 /dev/hda1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1 Feb 20 1998 /dev/hda11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2 Feb 20 1998 /dev/hda12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3 Feb 20 1998 /dev/hda13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4 Feb 20 1998 /dev/hda14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5 Feb 20 1998 /dev/hda1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6 Feb 20 1998 /dev/hda16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7 Feb 20 1998 /dev/hda17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8 Feb 20 1998 /dev/hda18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19 Feb 20 1998 /dev/hda1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2 Feb 20 1998 /dev/hda2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20 Feb 20 1998 /dev/hda2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brw-rw---- 1 root disk 3, 3 Feb 20 1998 /dev/hda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monok </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Speciális processzek, amelyek a háttérben futnak, párhuzamosan más programokk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z operációs rendszer nagy egységei önálló programként futnak íg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Konfigurációjuk módosítása esetén anélkül újraindíthatóak, hogy magát az operációs rendszert is újra kellene indítan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Jellemző példák: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yomtató démon - </a:t>
            </a:r>
            <a:r>
              <a:rPr b="0" i="1" lang="hu-HU" sz="2000" spc="-1" strike="noStrike">
                <a:solidFill>
                  <a:srgbClr val="000000"/>
                </a:solidFill>
                <a:latin typeface="Arial"/>
              </a:rPr>
              <a:t>lp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yslog démon - </a:t>
            </a:r>
            <a:r>
              <a:rPr b="0" i="1" lang="hu-HU" sz="2000" spc="-1" strike="noStrike">
                <a:solidFill>
                  <a:srgbClr val="000000"/>
                </a:solidFill>
                <a:latin typeface="Arial"/>
              </a:rPr>
              <a:t>syslog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ron démon - </a:t>
            </a:r>
            <a:r>
              <a:rPr b="0" i="1" lang="hu-HU" sz="2000" spc="-1" strike="noStrike">
                <a:solidFill>
                  <a:srgbClr val="000000"/>
                </a:solidFill>
                <a:latin typeface="Arial"/>
              </a:rPr>
              <a:t>cron</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démon - </a:t>
            </a:r>
            <a:r>
              <a:rPr b="0" i="1" lang="hu-HU" sz="2000" spc="-1" strike="noStrike">
                <a:solidFill>
                  <a:srgbClr val="000000"/>
                </a:solidFill>
                <a:latin typeface="Arial"/>
              </a:rPr>
              <a:t>at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Internet szuper démon - </a:t>
            </a:r>
            <a:r>
              <a:rPr b="0" i="1" lang="hu-HU" sz="2000" spc="-1" strike="noStrike">
                <a:solidFill>
                  <a:srgbClr val="000000"/>
                </a:solidFill>
                <a:latin typeface="Arial"/>
              </a:rPr>
              <a:t>inetd</a:t>
            </a:r>
            <a:r>
              <a:rPr b="0" lang="hu-H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FS mount démon - </a:t>
            </a:r>
            <a:r>
              <a:rPr b="0" i="1" lang="hu-HU" sz="2000" spc="-1" strike="noStrike">
                <a:solidFill>
                  <a:srgbClr val="000000"/>
                </a:solidFill>
                <a:latin typeface="Arial"/>
              </a:rPr>
              <a:t>rpc.nfsd</a:t>
            </a:r>
            <a:r>
              <a:rPr b="0" lang="hu-H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ol </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dnem minden számítógéphez tartozik egy billentyűzet és egy monitor, amely a számítógép rész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nix szempontjából ez a billentyűzet és monitor együttes csak egy további terminál. Azonban egy speciális nevet adtak neki, ez a KONZO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zonyos értelemben a konzol be van építve a számítógépbe, az összes többi terminál különálló, és csatlakoztatni kell a számítógéphe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ol </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személyi számítógépekben nincs beépített monitor és billentyűzet, csak lehet hozzájuk csatlakoztatn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Linux használatához nem szükséges egyik s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Itt sem játszik kiemelt szerepet a konzo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Ide érkeznek azok az üzenetek, amiket a rendszer küld a bootolás folyamá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 rendszerüzenetek is érkezhetnek a konzolra, ha így állítottuk be a rendszerün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Létezik xkonzol is, ami a grafikus felületen jeleníti meg a konzolra küldött üzenetek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ol </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Linux lehetővé teszi, hogy a fizikailag egyetlen számítógépet virtuálisan úgy használjuk, mintha több különböző számítógépen (terminálon) dolgoznán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Természetesen egyszerre csak egy terminálon tudunk dolgozni, de az elindított programok párhuzamosan futnak egymáss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 egyes virtuális konzolok között váltogathatunk a bal Alt-F? (?=1...12) billentyűkombinációv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zol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lapértelmezésben a Linux csak 6 virtuális terminált indít. A virtuális konzolok maximális száma a kernelben van meghatározv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hálózaton vagy grafikus felületen keresztül bejelentkezett felhasználókhoz úgynevezett pszeudo-terminálokat rendel a rendszer, ahol a billentyűzet és a képernyő annak a gépnek a billentyűzetéhez és képernyőjéhez rendelődik, ami előtt a felhasználó ü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0" i="1" lang="hu-HU" sz="2400" spc="-1" strike="noStrike">
                <a:solidFill>
                  <a:srgbClr val="000000"/>
                </a:solidFill>
                <a:latin typeface="Arial"/>
              </a:rPr>
              <a:t>/etc/inittab</a:t>
            </a:r>
            <a:r>
              <a:rPr b="0" lang="hu-HU" sz="2400" spc="-1" strike="noStrike">
                <a:solidFill>
                  <a:srgbClr val="000000"/>
                </a:solidFill>
                <a:latin typeface="Arial"/>
              </a:rPr>
              <a:t> fájl tartalmától függ, hogy melyik konzolokon kell megjeleníteni bejelentkezési prompt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Grafikus felület esetén a másik virtuális konzolra váltás a megfelelő funkcióbillentyű (F?), és a Ctrl-Alt billentyűk együttes megnyomásával érhető 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ztribúciók bemutatása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ebi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ed H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S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Slackware Linu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Caldera OpenLinu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ndrak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i is az a </a:t>
            </a:r>
            <a:r>
              <a:rPr b="0" i="1" lang="hu-HU" sz="4400" spc="-1" strike="noStrike">
                <a:solidFill>
                  <a:srgbClr val="000000"/>
                </a:solidFill>
                <a:latin typeface="Arial"/>
              </a:rPr>
              <a:t>Linux</a:t>
            </a:r>
            <a:r>
              <a:rPr b="0" lang="hu-HU" sz="4400" spc="-1" strike="noStrike">
                <a:solidFill>
                  <a:srgbClr val="000000"/>
                </a:solidFill>
                <a:latin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a:t>
            </a:r>
            <a:r>
              <a:rPr b="0" i="1" lang="hu-HU" sz="3200" spc="-1" strike="noStrike">
                <a:solidFill>
                  <a:srgbClr val="000000"/>
                </a:solidFill>
                <a:latin typeface="Arial"/>
              </a:rPr>
              <a:t>Linux</a:t>
            </a:r>
            <a:r>
              <a:rPr b="0" lang="hu-HU" sz="3200" spc="-1" strike="noStrike">
                <a:solidFill>
                  <a:srgbClr val="000000"/>
                </a:solidFill>
                <a:latin typeface="Arial"/>
              </a:rPr>
              <a:t> rendelkezik a szokásos funkciókkal: virtuális memória, merevlemez gyorsítótár, memórialemez, Internet hozzáférés, a leggyakoribb hardverelemek (CD-olvasó/író, nyomtató, IDE és SCSI lemezek, stb.) kezelé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Debian </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Debian Linux Association </a:t>
            </a:r>
            <a:br>
              <a:rPr sz="2800"/>
            </a:br>
            <a:r>
              <a:rPr b="0" lang="hu-HU" sz="2800" spc="-1" strike="noStrike">
                <a:solidFill>
                  <a:srgbClr val="000000"/>
                </a:solidFill>
                <a:latin typeface="Arial"/>
              </a:rPr>
              <a:t>Software in the Public Interest </a:t>
            </a:r>
            <a:br>
              <a:rPr sz="2800"/>
            </a:br>
            <a:r>
              <a:rPr b="0" lang="hu-HU" sz="2800" spc="-1" strike="noStrike">
                <a:solidFill>
                  <a:srgbClr val="000000"/>
                </a:solidFill>
                <a:latin typeface="Arial"/>
              </a:rPr>
              <a:t>P.O. Box 70152 </a:t>
            </a:r>
            <a:br>
              <a:rPr sz="2800"/>
            </a:br>
            <a:r>
              <a:rPr b="0" lang="hu-HU" sz="2800" spc="-1" strike="noStrike">
                <a:solidFill>
                  <a:srgbClr val="000000"/>
                </a:solidFill>
                <a:latin typeface="Arial"/>
              </a:rPr>
              <a:t>Pt. Richmond CA 94807-0512 </a:t>
            </a:r>
            <a:br>
              <a:rPr sz="2800"/>
            </a:br>
            <a:r>
              <a:rPr b="0" lang="hu-HU" sz="2800" spc="-1" strike="noStrike">
                <a:solidFill>
                  <a:srgbClr val="000000"/>
                </a:solidFill>
                <a:latin typeface="Arial"/>
              </a:rPr>
              <a:t>info@debian.org </a:t>
            </a:r>
            <a:br>
              <a:rPr sz="2800"/>
            </a:br>
            <a:r>
              <a:rPr b="0" lang="hu-HU" sz="2800" spc="-1" strike="noStrike" u="sng">
                <a:solidFill>
                  <a:srgbClr val="009999"/>
                </a:solidFill>
                <a:uFillTx/>
                <a:latin typeface="Arial"/>
                <a:hlinkClick r:id="rId2"/>
              </a:rPr>
              <a:t>http</a:t>
            </a:r>
            <a:r>
              <a:rPr b="0" lang="hu-HU" sz="2800" spc="-1" strike="noStrike" u="sng">
                <a:solidFill>
                  <a:srgbClr val="009999"/>
                </a:solidFill>
                <a:uFillTx/>
                <a:latin typeface="Arial"/>
                <a:hlinkClick r:id="rId3"/>
              </a:rPr>
              <a:t>://</a:t>
            </a:r>
            <a:r>
              <a:rPr b="0" lang="hu-HU" sz="2800" spc="-1" strike="noStrike" u="sng">
                <a:solidFill>
                  <a:srgbClr val="009999"/>
                </a:solidFill>
                <a:uFillTx/>
                <a:latin typeface="Arial"/>
                <a:hlinkClick r:id="rId4"/>
              </a:rPr>
              <a:t>www.debian.org</a:t>
            </a:r>
            <a:r>
              <a:rPr b="0" lang="hu-HU" sz="2800" spc="-1" strike="noStrike" u="sng">
                <a:solidFill>
                  <a:srgbClr val="009999"/>
                </a:solidFill>
                <a:uFillTx/>
                <a:latin typeface="Arial"/>
                <a:hlinkClick r:id="rId5"/>
              </a:rPr>
              <a:t>/</a:t>
            </a:r>
            <a:r>
              <a:rPr b="0" lang="hu-HU" sz="2800" spc="-1" strike="noStrike">
                <a:solidFill>
                  <a:srgbClr val="000000"/>
                </a:solidFill>
                <a:latin typeface="Arial"/>
              </a:rPr>
              <a:t> </a:t>
            </a:r>
            <a:br>
              <a:rPr sz="2800"/>
            </a:br>
            <a:r>
              <a:rPr b="0" lang="hu-HU" sz="2800" spc="-1" strike="noStrike" u="sng">
                <a:solidFill>
                  <a:srgbClr val="009999"/>
                </a:solidFill>
                <a:uFillTx/>
                <a:latin typeface="Arial"/>
                <a:hlinkClick r:id="rId6"/>
              </a:rPr>
              <a:t>ftp</a:t>
            </a:r>
            <a:r>
              <a:rPr b="0" lang="hu-HU" sz="2800" spc="-1" strike="noStrike" u="sng">
                <a:solidFill>
                  <a:srgbClr val="009999"/>
                </a:solidFill>
                <a:uFillTx/>
                <a:latin typeface="Arial"/>
                <a:hlinkClick r:id="rId7"/>
              </a:rPr>
              <a:t>://</a:t>
            </a:r>
            <a:r>
              <a:rPr b="0" lang="hu-HU" sz="2800" spc="-1" strike="noStrike" u="sng">
                <a:solidFill>
                  <a:srgbClr val="009999"/>
                </a:solidFill>
                <a:uFillTx/>
                <a:latin typeface="Arial"/>
                <a:hlinkClick r:id="rId8"/>
              </a:rPr>
              <a:t>ftp.debian.org</a:t>
            </a:r>
            <a:r>
              <a:rPr b="0" lang="hu-HU" sz="2800" spc="-1" strike="noStrike" u="sng">
                <a:solidFill>
                  <a:srgbClr val="009999"/>
                </a:solidFill>
                <a:uFillTx/>
                <a:latin typeface="Arial"/>
                <a:hlinkClick r:id="rId9"/>
              </a:rPr>
              <a:t>/</a:t>
            </a:r>
            <a:r>
              <a:rPr b="0" lang="hu-HU" sz="2800" spc="-1" strike="noStrike" u="sng">
                <a:solidFill>
                  <a:srgbClr val="009999"/>
                </a:solidFill>
                <a:uFillTx/>
                <a:latin typeface="Arial"/>
                <a:hlinkClick r:id="rId10"/>
              </a:rPr>
              <a:t>debian</a:t>
            </a:r>
            <a:r>
              <a:rPr b="0" lang="hu-HU" sz="2800" spc="-1" strike="noStrike" u="sng">
                <a:solidFill>
                  <a:srgbClr val="009999"/>
                </a:solidFill>
                <a:uFillTx/>
                <a:latin typeface="Arial"/>
                <a:hlinkClick r:id="rId11"/>
              </a:rPr>
              <a:t>/</a:t>
            </a:r>
            <a:r>
              <a:rPr b="0" lang="hu-H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gy teljesen szabad, nagyon jól karbantartott disztribúció. DEB csomagokat haszná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Red Hat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Red Hat Software </a:t>
            </a:r>
            <a:br>
              <a:rPr sz="2800"/>
            </a:br>
            <a:r>
              <a:rPr b="0" lang="hu-HU" sz="2800" spc="-1" strike="noStrike">
                <a:solidFill>
                  <a:srgbClr val="000000"/>
                </a:solidFill>
                <a:latin typeface="Arial"/>
              </a:rPr>
              <a:t>3201 Yorktown Rd, Suite 123 DeKalb Center </a:t>
            </a:r>
            <a:br>
              <a:rPr sz="2800"/>
            </a:br>
            <a:r>
              <a:rPr b="0" lang="hu-HU" sz="2800" spc="-1" strike="noStrike">
                <a:solidFill>
                  <a:srgbClr val="000000"/>
                </a:solidFill>
                <a:latin typeface="Arial"/>
              </a:rPr>
              <a:t>Durham, NC 27713 </a:t>
            </a:r>
            <a:br>
              <a:rPr sz="2800"/>
            </a:br>
            <a:r>
              <a:rPr b="0" lang="hu-HU" sz="2800" spc="-1" strike="noStrike">
                <a:solidFill>
                  <a:srgbClr val="000000"/>
                </a:solidFill>
                <a:latin typeface="Arial"/>
              </a:rPr>
              <a:t>redhat@redhat.com </a:t>
            </a:r>
            <a:br>
              <a:rPr sz="2800"/>
            </a:br>
            <a:r>
              <a:rPr b="0" lang="hu-HU" sz="2800" spc="-1" strike="noStrike" u="sng">
                <a:solidFill>
                  <a:srgbClr val="009999"/>
                </a:solidFill>
                <a:uFillTx/>
                <a:latin typeface="Arial"/>
                <a:hlinkClick r:id="rId2"/>
              </a:rPr>
              <a:t>http</a:t>
            </a:r>
            <a:r>
              <a:rPr b="0" lang="hu-HU" sz="2800" spc="-1" strike="noStrike" u="sng">
                <a:solidFill>
                  <a:srgbClr val="009999"/>
                </a:solidFill>
                <a:uFillTx/>
                <a:latin typeface="Arial"/>
                <a:hlinkClick r:id="rId3"/>
              </a:rPr>
              <a:t>://</a:t>
            </a:r>
            <a:r>
              <a:rPr b="0" lang="hu-HU" sz="2800" spc="-1" strike="noStrike" u="sng">
                <a:solidFill>
                  <a:srgbClr val="009999"/>
                </a:solidFill>
                <a:uFillTx/>
                <a:latin typeface="Arial"/>
                <a:hlinkClick r:id="rId4"/>
              </a:rPr>
              <a:t>www.redhat.com</a:t>
            </a:r>
            <a:r>
              <a:rPr b="0" lang="hu-HU" sz="2800" spc="-1" strike="noStrike" u="sng">
                <a:solidFill>
                  <a:srgbClr val="009999"/>
                </a:solidFill>
                <a:uFillTx/>
                <a:latin typeface="Arial"/>
                <a:hlinkClick r:id="rId5"/>
              </a:rPr>
              <a:t>/</a:t>
            </a:r>
            <a:r>
              <a:rPr b="0" lang="hu-HU" sz="2800" spc="-1" strike="noStrike">
                <a:solidFill>
                  <a:srgbClr val="000000"/>
                </a:solidFill>
                <a:latin typeface="Arial"/>
              </a:rPr>
              <a:t> </a:t>
            </a:r>
            <a:br>
              <a:rPr sz="2800"/>
            </a:br>
            <a:r>
              <a:rPr b="0" lang="hu-HU" sz="2800" spc="-1" strike="noStrike" u="sng">
                <a:solidFill>
                  <a:srgbClr val="009999"/>
                </a:solidFill>
                <a:uFillTx/>
                <a:latin typeface="Arial"/>
                <a:hlinkClick r:id="rId6"/>
              </a:rPr>
              <a:t>ftp</a:t>
            </a:r>
            <a:r>
              <a:rPr b="0" lang="hu-HU" sz="2800" spc="-1" strike="noStrike" u="sng">
                <a:solidFill>
                  <a:srgbClr val="009999"/>
                </a:solidFill>
                <a:uFillTx/>
                <a:latin typeface="Arial"/>
                <a:hlinkClick r:id="rId7"/>
              </a:rPr>
              <a:t>://</a:t>
            </a:r>
            <a:r>
              <a:rPr b="0" lang="hu-HU" sz="2800" spc="-1" strike="noStrike" u="sng">
                <a:solidFill>
                  <a:srgbClr val="009999"/>
                </a:solidFill>
                <a:uFillTx/>
                <a:latin typeface="Arial"/>
                <a:hlinkClick r:id="rId8"/>
              </a:rPr>
              <a:t>ftp.redhat.com</a:t>
            </a:r>
            <a:r>
              <a:rPr b="0" lang="hu-HU" sz="2800" spc="-1" strike="noStrike" u="sng">
                <a:solidFill>
                  <a:srgbClr val="009999"/>
                </a:solidFill>
                <a:uFillTx/>
                <a:latin typeface="Arial"/>
                <a:hlinkClick r:id="rId9"/>
              </a:rPr>
              <a:t>/</a:t>
            </a:r>
            <a:r>
              <a:rPr b="0" lang="hu-H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Talán a legelterjedtebb disztribúció.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cégbe befektetett sok nagy cég, köztük az Intel, a Netscape, a Compaq. RPM csomagokat haszná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use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u="sng">
                <a:solidFill>
                  <a:srgbClr val="009999"/>
                </a:solidFill>
                <a:uFillTx/>
                <a:latin typeface="Arial"/>
                <a:hlinkClick r:id="rId2"/>
              </a:rPr>
              <a:t>http</a:t>
            </a:r>
            <a:r>
              <a:rPr b="0" lang="hu-HU" sz="3200" spc="-1" strike="noStrike" u="sng">
                <a:solidFill>
                  <a:srgbClr val="009999"/>
                </a:solidFill>
                <a:uFillTx/>
                <a:latin typeface="Arial"/>
                <a:hlinkClick r:id="rId3"/>
              </a:rPr>
              <a:t>://</a:t>
            </a:r>
            <a:r>
              <a:rPr b="0" lang="hu-HU" sz="3200" spc="-1" strike="noStrike" u="sng">
                <a:solidFill>
                  <a:srgbClr val="009999"/>
                </a:solidFill>
                <a:uFillTx/>
                <a:latin typeface="Arial"/>
                <a:hlinkClick r:id="rId4"/>
              </a:rPr>
              <a:t>www.suse.com</a:t>
            </a:r>
            <a:r>
              <a:rPr b="0" lang="hu-HU" sz="3200" spc="-1" strike="noStrike" u="sng">
                <a:solidFill>
                  <a:srgbClr val="009999"/>
                </a:solidFill>
                <a:uFillTx/>
                <a:latin typeface="Arial"/>
                <a:hlinkClick r:id="rId5"/>
              </a:rPr>
              <a:t>/</a:t>
            </a:r>
            <a:r>
              <a:rPr b="0" lang="hu-HU" sz="3200" spc="-1" strike="noStrike">
                <a:solidFill>
                  <a:srgbClr val="000000"/>
                </a:solidFill>
                <a:latin typeface="Arial"/>
              </a:rPr>
              <a:t> </a:t>
            </a:r>
            <a:br>
              <a:rPr sz="3200"/>
            </a:br>
            <a:r>
              <a:rPr b="0" lang="hu-HU" sz="3200" spc="-1" strike="noStrike" u="sng">
                <a:solidFill>
                  <a:srgbClr val="009999"/>
                </a:solidFill>
                <a:uFillTx/>
                <a:latin typeface="Arial"/>
                <a:hlinkClick r:id="rId6"/>
              </a:rPr>
              <a:t>ftp</a:t>
            </a:r>
            <a:r>
              <a:rPr b="0" lang="hu-HU" sz="3200" spc="-1" strike="noStrike" u="sng">
                <a:solidFill>
                  <a:srgbClr val="009999"/>
                </a:solidFill>
                <a:uFillTx/>
                <a:latin typeface="Arial"/>
                <a:hlinkClick r:id="rId7"/>
              </a:rPr>
              <a:t>://</a:t>
            </a:r>
            <a:r>
              <a:rPr b="0" lang="hu-HU" sz="3200" spc="-1" strike="noStrike" u="sng">
                <a:solidFill>
                  <a:srgbClr val="009999"/>
                </a:solidFill>
                <a:uFillTx/>
                <a:latin typeface="Arial"/>
                <a:hlinkClick r:id="rId8"/>
              </a:rPr>
              <a:t>ftp.suse.com</a:t>
            </a:r>
            <a:r>
              <a:rPr b="0" lang="hu-HU" sz="3200" spc="-1" strike="noStrike" u="sng">
                <a:solidFill>
                  <a:srgbClr val="009999"/>
                </a:solidFill>
                <a:uFillTx/>
                <a:latin typeface="Arial"/>
                <a:hlinkClick r:id="rId9"/>
              </a:rPr>
              <a:t>/</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émetországban készített disztribúció, több nyelvű telepítőv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Kezdőknek a leginkább ajánlot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YaST nevű program segítségével szinte mindent menükön keresztül lehet beállítani.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PM csomagokat haszná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Slackware Linux</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Walnut Creek CDROM, Inc. </a:t>
            </a:r>
            <a:br>
              <a:rPr sz="3200"/>
            </a:br>
            <a:r>
              <a:rPr b="0" lang="hu-HU" sz="3200" spc="-1" strike="noStrike">
                <a:solidFill>
                  <a:srgbClr val="000000"/>
                </a:solidFill>
                <a:latin typeface="Arial"/>
              </a:rPr>
              <a:t>4041 Pike Lane, Suite D </a:t>
            </a:r>
            <a:br>
              <a:rPr sz="3200"/>
            </a:br>
            <a:r>
              <a:rPr b="0" lang="hu-HU" sz="3200" spc="-1" strike="noStrike">
                <a:solidFill>
                  <a:srgbClr val="000000"/>
                </a:solidFill>
                <a:latin typeface="Arial"/>
              </a:rPr>
              <a:t>Concord, CA 94520 </a:t>
            </a:r>
            <a:br>
              <a:rPr sz="3200"/>
            </a:br>
            <a:r>
              <a:rPr b="0" lang="hu-HU" sz="3200" spc="-1" strike="noStrike">
                <a:solidFill>
                  <a:srgbClr val="000000"/>
                </a:solidFill>
                <a:latin typeface="Arial"/>
              </a:rPr>
              <a:t>info@cdrom.com </a:t>
            </a:r>
            <a:br>
              <a:rPr sz="3200"/>
            </a:br>
            <a:r>
              <a:rPr b="0" lang="hu-HU" sz="3200" spc="-1" strike="noStrike" u="sng">
                <a:solidFill>
                  <a:srgbClr val="009999"/>
                </a:solidFill>
                <a:uFillTx/>
                <a:latin typeface="Arial"/>
                <a:hlinkClick r:id="rId2"/>
              </a:rPr>
              <a:t>http</a:t>
            </a:r>
            <a:r>
              <a:rPr b="0" lang="hu-HU" sz="3200" spc="-1" strike="noStrike" u="sng">
                <a:solidFill>
                  <a:srgbClr val="009999"/>
                </a:solidFill>
                <a:uFillTx/>
                <a:latin typeface="Arial"/>
                <a:hlinkClick r:id="rId3"/>
              </a:rPr>
              <a:t>://</a:t>
            </a:r>
            <a:r>
              <a:rPr b="0" lang="hu-HU" sz="3200" spc="-1" strike="noStrike" u="sng">
                <a:solidFill>
                  <a:srgbClr val="009999"/>
                </a:solidFill>
                <a:uFillTx/>
                <a:latin typeface="Arial"/>
                <a:hlinkClick r:id="rId4"/>
              </a:rPr>
              <a:t>www.cdrom.com</a:t>
            </a:r>
            <a:r>
              <a:rPr b="0" lang="hu-HU" sz="3200" spc="-1" strike="noStrike" u="sng">
                <a:solidFill>
                  <a:srgbClr val="009999"/>
                </a:solidFill>
                <a:uFillTx/>
                <a:latin typeface="Arial"/>
                <a:hlinkClick r:id="rId5"/>
              </a:rPr>
              <a:t>/</a:t>
            </a:r>
            <a:r>
              <a:rPr b="0" lang="hu-HU" sz="3200" spc="-1" strike="noStrike">
                <a:solidFill>
                  <a:srgbClr val="000000"/>
                </a:solidFill>
                <a:latin typeface="Arial"/>
              </a:rPr>
              <a:t> </a:t>
            </a:r>
            <a:br>
              <a:rPr sz="3200"/>
            </a:br>
            <a:r>
              <a:rPr b="0" lang="hu-HU" sz="3200" spc="-1" strike="noStrike" u="sng">
                <a:solidFill>
                  <a:srgbClr val="009999"/>
                </a:solidFill>
                <a:uFillTx/>
                <a:latin typeface="Arial"/>
                <a:hlinkClick r:id="rId6"/>
              </a:rPr>
              <a:t>ftp</a:t>
            </a:r>
            <a:r>
              <a:rPr b="0" lang="hu-HU" sz="3200" spc="-1" strike="noStrike" u="sng">
                <a:solidFill>
                  <a:srgbClr val="009999"/>
                </a:solidFill>
                <a:uFillTx/>
                <a:latin typeface="Arial"/>
                <a:hlinkClick r:id="rId7"/>
              </a:rPr>
              <a:t>://</a:t>
            </a:r>
            <a:r>
              <a:rPr b="0" lang="hu-HU" sz="3200" spc="-1" strike="noStrike" u="sng">
                <a:solidFill>
                  <a:srgbClr val="009999"/>
                </a:solidFill>
                <a:uFillTx/>
                <a:latin typeface="Arial"/>
                <a:hlinkClick r:id="rId8"/>
              </a:rPr>
              <a:t>ftp.cdrom.com</a:t>
            </a:r>
            <a:r>
              <a:rPr b="0" lang="hu-HU" sz="3200" spc="-1" strike="noStrike" u="sng">
                <a:solidFill>
                  <a:srgbClr val="009999"/>
                </a:solidFill>
                <a:uFillTx/>
                <a:latin typeface="Arial"/>
                <a:hlinkClick r:id="rId9"/>
              </a:rPr>
              <a:t>/</a:t>
            </a:r>
            <a:r>
              <a:rPr b="0" lang="hu-HU" sz="3200" spc="-1" strike="noStrike">
                <a:solidFill>
                  <a:srgbClr val="000000"/>
                </a:solidFill>
                <a:latin typeface="Arial"/>
              </a:rPr>
              <a:t> </a:t>
            </a:r>
            <a:br>
              <a:rPr sz="3200"/>
            </a:br>
            <a:r>
              <a:rPr b="0" lang="hu-HU" sz="3200" spc="-1" strike="noStrike" u="sng">
                <a:solidFill>
                  <a:srgbClr val="009999"/>
                </a:solidFill>
                <a:uFillTx/>
                <a:latin typeface="Arial"/>
                <a:hlinkClick r:id="rId10"/>
              </a:rPr>
              <a:t>http</a:t>
            </a:r>
            <a:r>
              <a:rPr b="0" lang="hu-HU" sz="3200" spc="-1" strike="noStrike" u="sng">
                <a:solidFill>
                  <a:srgbClr val="009999"/>
                </a:solidFill>
                <a:uFillTx/>
                <a:latin typeface="Arial"/>
                <a:hlinkClick r:id="rId11"/>
              </a:rPr>
              <a:t>://</a:t>
            </a:r>
            <a:r>
              <a:rPr b="0" lang="hu-HU" sz="3200" spc="-1" strike="noStrike" u="sng">
                <a:solidFill>
                  <a:srgbClr val="009999"/>
                </a:solidFill>
                <a:uFillTx/>
                <a:latin typeface="Arial"/>
                <a:hlinkClick r:id="rId12"/>
              </a:rPr>
              <a:t>www.slackware.com</a:t>
            </a:r>
            <a:r>
              <a:rPr b="0" lang="hu-HU" sz="3200" spc="-1" strike="noStrike" u="sng">
                <a:solidFill>
                  <a:srgbClr val="009999"/>
                </a:solidFill>
                <a:uFillTx/>
                <a:latin typeface="Arial"/>
                <a:hlinkClick r:id="rId13"/>
              </a:rPr>
              <a:t>/</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legelső disztribúciók egyike. TGZ csomagokat haszná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Caldera OpenLinux</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Caldera, Inc. </a:t>
            </a:r>
            <a:br>
              <a:rPr sz="3200"/>
            </a:br>
            <a:r>
              <a:rPr b="0" lang="hu-HU" sz="3200" spc="-1" strike="noStrike">
                <a:solidFill>
                  <a:srgbClr val="000000"/>
                </a:solidFill>
                <a:latin typeface="Arial"/>
              </a:rPr>
              <a:t>633 South 550 East </a:t>
            </a:r>
            <a:br>
              <a:rPr sz="3200"/>
            </a:br>
            <a:r>
              <a:rPr b="0" lang="hu-HU" sz="3200" spc="-1" strike="noStrike">
                <a:solidFill>
                  <a:srgbClr val="000000"/>
                </a:solidFill>
                <a:latin typeface="Arial"/>
              </a:rPr>
              <a:t>Provo, Utah 84606 </a:t>
            </a:r>
            <a:br>
              <a:rPr sz="3200"/>
            </a:br>
            <a:r>
              <a:rPr b="0" lang="hu-HU" sz="3200" spc="-1" strike="noStrike">
                <a:solidFill>
                  <a:srgbClr val="000000"/>
                </a:solidFill>
                <a:latin typeface="Arial"/>
              </a:rPr>
              <a:t>info@caldera.com </a:t>
            </a:r>
            <a:br>
              <a:rPr sz="3200"/>
            </a:br>
            <a:r>
              <a:rPr b="0" lang="hu-HU" sz="3200" spc="-1" strike="noStrike" u="sng">
                <a:solidFill>
                  <a:srgbClr val="009999"/>
                </a:solidFill>
                <a:uFillTx/>
                <a:latin typeface="Arial"/>
                <a:hlinkClick r:id="rId2"/>
              </a:rPr>
              <a:t>http</a:t>
            </a:r>
            <a:r>
              <a:rPr b="0" lang="hu-HU" sz="3200" spc="-1" strike="noStrike" u="sng">
                <a:solidFill>
                  <a:srgbClr val="009999"/>
                </a:solidFill>
                <a:uFillTx/>
                <a:latin typeface="Arial"/>
                <a:hlinkClick r:id="rId3"/>
              </a:rPr>
              <a:t>://</a:t>
            </a:r>
            <a:r>
              <a:rPr b="0" lang="hu-HU" sz="3200" spc="-1" strike="noStrike" u="sng">
                <a:solidFill>
                  <a:srgbClr val="009999"/>
                </a:solidFill>
                <a:uFillTx/>
                <a:latin typeface="Arial"/>
                <a:hlinkClick r:id="rId4"/>
              </a:rPr>
              <a:t>www.caldera.com</a:t>
            </a:r>
            <a:r>
              <a:rPr b="0" lang="hu-HU" sz="3200" spc="-1" strike="noStrike" u="sng">
                <a:solidFill>
                  <a:srgbClr val="009999"/>
                </a:solidFill>
                <a:uFillTx/>
                <a:latin typeface="Arial"/>
                <a:hlinkClick r:id="rId5"/>
              </a:rPr>
              <a:t>/</a:t>
            </a:r>
            <a:r>
              <a:rPr b="0" lang="hu-HU" sz="3200" spc="-1" strike="noStrike">
                <a:solidFill>
                  <a:srgbClr val="000000"/>
                </a:solidFill>
                <a:latin typeface="Arial"/>
              </a:rPr>
              <a:t> </a:t>
            </a:r>
            <a:br>
              <a:rPr sz="3200"/>
            </a:br>
            <a:r>
              <a:rPr b="0" lang="hu-HU" sz="3200" spc="-1" strike="noStrike" u="sng">
                <a:solidFill>
                  <a:srgbClr val="009999"/>
                </a:solidFill>
                <a:uFillTx/>
                <a:latin typeface="Arial"/>
                <a:hlinkClick r:id="rId6"/>
              </a:rPr>
              <a:t>ftp</a:t>
            </a:r>
            <a:r>
              <a:rPr b="0" lang="hu-HU" sz="3200" spc="-1" strike="noStrike" u="sng">
                <a:solidFill>
                  <a:srgbClr val="009999"/>
                </a:solidFill>
                <a:uFillTx/>
                <a:latin typeface="Arial"/>
                <a:hlinkClick r:id="rId7"/>
              </a:rPr>
              <a:t>://</a:t>
            </a:r>
            <a:r>
              <a:rPr b="0" lang="hu-HU" sz="3200" spc="-1" strike="noStrike" u="sng">
                <a:solidFill>
                  <a:srgbClr val="009999"/>
                </a:solidFill>
                <a:uFillTx/>
                <a:latin typeface="Arial"/>
                <a:hlinkClick r:id="rId8"/>
              </a:rPr>
              <a:t>ftp.caldera.com</a:t>
            </a:r>
            <a:r>
              <a:rPr b="0" lang="hu-HU" sz="3200" spc="-1" strike="noStrike" u="sng">
                <a:solidFill>
                  <a:srgbClr val="009999"/>
                </a:solidFill>
                <a:uFillTx/>
                <a:latin typeface="Arial"/>
                <a:hlinkClick r:id="rId9"/>
              </a:rPr>
              <a:t>/</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Pénzért vásárolható Linux disztribúció. Nagyon könnyű telepíteni.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PM csomagokat haszná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andrake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att@engsoc.carleton.ca </a:t>
            </a:r>
            <a:br>
              <a:rPr sz="3200"/>
            </a:br>
            <a:r>
              <a:rPr b="0" lang="hu-HU" sz="3200" spc="-1" strike="noStrike" u="sng">
                <a:solidFill>
                  <a:srgbClr val="009999"/>
                </a:solidFill>
                <a:uFillTx/>
                <a:latin typeface="Arial"/>
                <a:hlinkClick r:id="rId2"/>
              </a:rPr>
              <a:t>http</a:t>
            </a:r>
            <a:r>
              <a:rPr b="0" lang="hu-HU" sz="3200" spc="-1" strike="noStrike" u="sng">
                <a:solidFill>
                  <a:srgbClr val="009999"/>
                </a:solidFill>
                <a:uFillTx/>
                <a:latin typeface="Arial"/>
                <a:hlinkClick r:id="rId3"/>
              </a:rPr>
              <a:t>://</a:t>
            </a:r>
            <a:r>
              <a:rPr b="0" lang="hu-HU" sz="3200" spc="-1" strike="noStrike" u="sng">
                <a:solidFill>
                  <a:srgbClr val="009999"/>
                </a:solidFill>
                <a:uFillTx/>
                <a:latin typeface="Arial"/>
                <a:hlinkClick r:id="rId4"/>
              </a:rPr>
              <a:t>www.linux-mandrake.com</a:t>
            </a:r>
            <a:r>
              <a:rPr b="0" lang="hu-HU" sz="3200" spc="-1" strike="noStrike" u="sng">
                <a:solidFill>
                  <a:srgbClr val="009999"/>
                </a:solidFill>
                <a:uFillTx/>
                <a:latin typeface="Arial"/>
                <a:hlinkClick r:id="rId5"/>
              </a:rPr>
              <a:t>/</a:t>
            </a:r>
            <a:r>
              <a:rPr b="0" lang="hu-H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Red Hat 6.0 Linux-szal kompatibilis disztribúció.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RPM csomagokat haszná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verkövetelmények és lehetőségek </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Linuxnak nincsenek nagy igényei a hardvert illetően, a minimális konfiguráció (amin elindul a rendsz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80386SX16-os processzor, 1 MB 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Az újabb terjesztéseknek ennél azért magasabb igényei vannak, minimum 4 MB RAM-ra van szükség a telepítéshez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Red Hat változatnak 8 MB-ra), de a processzorra ezeknél sincsen megkötés, tehát megelégednek a 80386-ossal 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Mi is az a </a:t>
            </a:r>
            <a:r>
              <a:rPr b="0" i="1" lang="hu-HU" sz="4400" spc="-1" strike="noStrike">
                <a:solidFill>
                  <a:srgbClr val="000000"/>
                </a:solidFill>
                <a:latin typeface="Arial"/>
              </a:rPr>
              <a:t>Linux</a:t>
            </a:r>
            <a:r>
              <a:rPr b="0" lang="hu-HU" sz="4400" spc="-1" strike="noStrike">
                <a:solidFill>
                  <a:srgbClr val="000000"/>
                </a:solidFill>
                <a:latin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rendszer kidolgozottsága olyan fokú, hogy egyre több helyen alkalmazzák UNIX-os munkaállomásként, vagy hálózati szerverké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Mindkét esetben hatalmas előny a szokásos IBM PC-s programokkal szemben a nagyfokú megbízhatóság és az alacsony ár, valamint az sem elhanyagolható, hogy nagyon nagy a hasonlóság a </a:t>
            </a:r>
            <a:r>
              <a:rPr b="0" i="1" lang="hu-HU" sz="2800" spc="-1" strike="noStrike">
                <a:solidFill>
                  <a:srgbClr val="000000"/>
                </a:solidFill>
                <a:latin typeface="Arial"/>
              </a:rPr>
              <a:t>Linux</a:t>
            </a:r>
            <a:r>
              <a:rPr b="0" lang="hu-HU" sz="2800" spc="-1" strike="noStrike">
                <a:solidFill>
                  <a:srgbClr val="000000"/>
                </a:solidFill>
                <a:latin typeface="Arial"/>
              </a:rPr>
              <a:t> és a ,,nagygépek'' operációs rendszerei köz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pl. egy Linuxos program könnyen átvihető mondjuk egy Sun SPARC gép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 </a:t>
            </a:r>
            <a:r>
              <a:rPr b="0" i="1" lang="hu-HU" sz="4400" spc="-1" strike="noStrike">
                <a:solidFill>
                  <a:srgbClr val="000000"/>
                </a:solidFill>
                <a:latin typeface="Arial"/>
              </a:rPr>
              <a:t>Linux</a:t>
            </a:r>
            <a:r>
              <a:rPr b="0" lang="hu-HU" sz="4400" spc="-1" strike="noStrike">
                <a:solidFill>
                  <a:srgbClr val="000000"/>
                </a:solidFill>
                <a:latin typeface="Arial"/>
              </a:rPr>
              <a:t> születése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a:t>
            </a:r>
            <a:r>
              <a:rPr b="0" i="1" lang="hu-HU" sz="2800" spc="-1" strike="noStrike">
                <a:solidFill>
                  <a:srgbClr val="000000"/>
                </a:solidFill>
                <a:latin typeface="Arial"/>
              </a:rPr>
              <a:t>Linux</a:t>
            </a:r>
            <a:r>
              <a:rPr b="0" lang="hu-HU" sz="2800" spc="-1" strike="noStrike">
                <a:solidFill>
                  <a:srgbClr val="000000"/>
                </a:solidFill>
                <a:latin typeface="Arial"/>
              </a:rPr>
              <a:t> fejlesztésének kezdetén Linus Torvalds a 80386 processzor védett módú (protected mode), feladat-váltó (task-switching) lehetőségeivel szeretett volna megismerked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Ez kb. 1991 nyarának elején lehetet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A pontos dátumra maga a szerző sem emlékszik, de amikor egyszer megkérdezték, mikor van a </a:t>
            </a:r>
            <a:r>
              <a:rPr b="0" i="1" lang="hu-HU" sz="2800" spc="-1" strike="noStrike">
                <a:solidFill>
                  <a:srgbClr val="000000"/>
                </a:solidFill>
                <a:latin typeface="Arial"/>
              </a:rPr>
              <a:t>Linux</a:t>
            </a:r>
            <a:r>
              <a:rPr b="0" lang="hu-HU" sz="2800" spc="-1" strike="noStrike">
                <a:solidFill>
                  <a:srgbClr val="000000"/>
                </a:solidFill>
                <a:latin typeface="Arial"/>
              </a:rPr>
              <a:t> születésnapja, azt mondta, hogy nem tudja megmondani, de egy e-mail tanúsága szerint július 3-án már a POSIX szabvány után érdeklődött, így akkor már biztos futott az alaprendsz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A </a:t>
            </a:r>
            <a:r>
              <a:rPr b="0" i="1" lang="hu-HU" sz="4400" spc="-1" strike="noStrike">
                <a:solidFill>
                  <a:srgbClr val="000000"/>
                </a:solidFill>
                <a:latin typeface="Arial"/>
              </a:rPr>
              <a:t>Linux</a:t>
            </a:r>
            <a:r>
              <a:rPr b="0" lang="hu-HU" sz="4400" spc="-1" strike="noStrike">
                <a:solidFill>
                  <a:srgbClr val="000000"/>
                </a:solidFill>
                <a:latin typeface="Arial"/>
              </a:rPr>
              <a:t> születés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1991. október 5-én hirdette meg Linus az első ,,hivatalos'', 0.02-es </a:t>
            </a:r>
            <a:r>
              <a:rPr b="0" i="1" lang="hu-HU" sz="2800" spc="-1" strike="noStrike">
                <a:solidFill>
                  <a:srgbClr val="000000"/>
                </a:solidFill>
                <a:latin typeface="Arial"/>
              </a:rPr>
              <a:t>Linux</a:t>
            </a:r>
            <a:r>
              <a:rPr b="0" lang="hu-HU" sz="2800" spc="-1" strike="noStrike">
                <a:solidFill>
                  <a:srgbClr val="000000"/>
                </a:solidFill>
                <a:latin typeface="Arial"/>
              </a:rPr>
              <a:t>-ot az Interne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Ekkor már néhány alapprogram futott a rendszeren (pl. a GNU </a:t>
            </a:r>
            <a:r>
              <a:rPr b="0" i="1" lang="hu-HU" sz="2800" spc="-1" strike="noStrike">
                <a:solidFill>
                  <a:srgbClr val="000000"/>
                </a:solidFill>
                <a:latin typeface="Arial"/>
              </a:rPr>
              <a:t>gcc</a:t>
            </a:r>
            <a:r>
              <a:rPr b="0" lang="hu-HU" sz="2800" spc="-1" strike="noStrike">
                <a:solidFill>
                  <a:srgbClr val="000000"/>
                </a:solidFill>
                <a:latin typeface="Arial"/>
              </a:rPr>
              <a:t> nevű C fordítója, valamint a </a:t>
            </a:r>
            <a:r>
              <a:rPr b="0" i="1" lang="hu-HU" sz="2800" spc="-1" strike="noStrike">
                <a:solidFill>
                  <a:srgbClr val="000000"/>
                </a:solidFill>
                <a:latin typeface="Arial"/>
              </a:rPr>
              <a:t>bash</a:t>
            </a:r>
            <a:r>
              <a:rPr b="0" lang="hu-HU" sz="2800" spc="-1" strike="noStrike">
                <a:solidFill>
                  <a:srgbClr val="000000"/>
                </a:solidFill>
                <a:latin typeface="Arial"/>
              </a:rPr>
              <a:t> burokprogram), így már el lehetett kezdeni használni a rendszer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kkor nem is a rendszer használhatóságának növelése volt a fő cél, hanem a rendszermag fejleszté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zért ekkor nem készültek dokumentációk, installációs csomagok, stb. A </a:t>
            </a:r>
            <a:r>
              <a:rPr b="0" i="1" lang="hu-HU" sz="2800" spc="-1" strike="noStrike">
                <a:solidFill>
                  <a:srgbClr val="000000"/>
                </a:solidFill>
                <a:latin typeface="Arial"/>
              </a:rPr>
              <a:t>Linux</a:t>
            </a:r>
            <a:r>
              <a:rPr b="0" lang="hu-HU" sz="2800" spc="-1" strike="noStrike">
                <a:solidFill>
                  <a:srgbClr val="000000"/>
                </a:solidFill>
                <a:latin typeface="Arial"/>
              </a:rPr>
              <a:t> ekkor még csak a megszállott hackereknek készül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Linux-terjesztések (disztribúciók)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Linuxot kezdetben pusztán az Internetről lehetett beszerezni, és az installálás nem volt túl megkönnyítv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kkor a rendszert még csak a számítógéphez nagyon értők használták. A népszerűség növekedtével azonban igény mutatkozott olyan programcsomag-rendszerre, amely a kevésbé szakértő számára is lehetővé teszi a telepíté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 volt az oka a Linux-terjesztések (disztribúciók) megjelenéséne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Általános tendenciaként azt említhetjük, hogy az egyre későbbi disztribúciók egyre jobban megkönnyítik a felhasználó dolgát. Igaz, ennek ára van: egyrészt a legautomatikusabb változatok pénzbe kerülnek, másrészt egy automatikus telepítés sohasem olyan gazdaságos, mint egy kézi vezérlésű.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ehát egy automatikus telepítéskor felkerülhetnek felesleges programok is, vagy a konfiguráció nem a legjobban illeszkedik a rendszerhez, viszont a telepítés elkezdése és a rendszer használatbavétele közt sokkal kevesebb idő telik el, és az új programváltozatok is könnyen telepíthetők leszne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szabad szoftverek (freeware) és a GNU projec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Linux-ot szabad szoftverként forgalmazzák. Első pillanatra ez furcsa lehet, azonban, ha a számítástechnika történetét megnézzük, rájöhetünk, hogy ez nem mai találmán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5T10:56:44Z</dcterms:created>
  <dc:creator>Nagymáté Péter</dc:creator>
  <dc:description/>
  <dc:language>en-US</dc:language>
  <cp:lastModifiedBy>Nagymáté Péter</cp:lastModifiedBy>
  <dcterms:modified xsi:type="dcterms:W3CDTF">2005-02-15T11:51:11Z</dcterms:modified>
  <cp:revision>17</cp:revision>
  <dc:subject/>
  <dc:title>Operációs rendszerek II. </dc:title>
</cp:coreProperties>
</file>